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BF6A-87D6-425A-A4D1-48E68206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B7FB-4CF0-43EE-B690-46E61D0C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8F50-4936-423F-992B-56DA2B848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5A39-FDD5-4F33-91D7-DD35ADDC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C4DA-BF8C-4283-B358-D9C9A86B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1476-4BA0-4C02-93EA-B591E593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560F-0AA7-4859-AD4E-88CA4203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E171-65E5-4816-A2EE-D7FFE8B4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55A1-F762-4237-BF07-DA21FC53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FE9F-F934-412A-A688-66AAF1BC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FB8A-A846-429C-A8C1-F8A95192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E09D-DB17-43E3-9A1D-E9F7AB35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6BF04-A089-426D-AA9F-812144A9A78E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3924360"/>
            <a:ext cx="2006640" cy="338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81360" y="1157400"/>
            <a:ext cx="2124360" cy="3828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857680" y="2544840"/>
            <a:ext cx="1547640" cy="1280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57200" y="461880"/>
            <a:ext cx="1811160" cy="354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8534520" y="2230560"/>
            <a:ext cx="1439640" cy="126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5273640" y="3262320"/>
            <a:ext cx="1527120" cy="1287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Überschri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30T09:45:03Z</dcterms:created>
  <dc:creator/>
  <dc:description/>
  <dc:language>en-US</dc:language>
  <cp:lastModifiedBy/>
  <dcterms:modified xsi:type="dcterms:W3CDTF">2019-10-01T16:03:44Z</dcterms:modified>
  <cp:revision>7</cp:revision>
  <dc:subject/>
  <dc:title/>
</cp:coreProperties>
</file>