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EFF-531E-46B9-BD60-956BEECC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EC9-A751-4E5E-8A81-628F05F9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C24-74B4-474E-AE1E-22BDF1F3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902-5D98-4EE2-A1C8-1559ED77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52A-D787-452D-937F-CB1A6640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556-4ACB-492B-85FF-616344F9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560-B64E-4643-87B4-2D8625A5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0BD-FCF1-4198-B399-B01568B0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757-550C-4BA2-8B2A-3D20DCEB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D8A-0C2B-4CD7-B41C-CBAB37CB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1EC-1CDC-4A4B-BEA5-55532788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540-3118-4512-A880-AE431AA0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AEBE5-E44C-4E80-B182-8A4C15598E7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3924360"/>
            <a:ext cx="2006640" cy="338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81360" y="1157400"/>
            <a:ext cx="2124360" cy="382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57680" y="2544840"/>
            <a:ext cx="1547640" cy="12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7200" y="461880"/>
            <a:ext cx="1811160" cy="354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534520" y="2230560"/>
            <a:ext cx="1439640" cy="126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273640" y="3262320"/>
            <a:ext cx="1527120" cy="128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Übersch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09:45:03Z</dcterms:created>
  <dc:creator/>
  <dc:description/>
  <dc:language>en-US</dc:language>
  <cp:lastModifiedBy/>
  <dcterms:modified xsi:type="dcterms:W3CDTF">2019-10-01T16:03:44Z</dcterms:modified>
  <cp:revision>7</cp:revision>
  <dc:subject/>
  <dc:title/>
</cp:coreProperties>
</file>